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F35-EC98-4326-9FFE-1836CF7B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A3DE-8375-4270-B0D2-4AFF7E43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A4E-048B-406F-A35A-458E59A5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5F15-4A84-4FFA-8A3E-0CB396C8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320F-8EED-4781-B8C9-19204D89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1B08-C8DB-45E6-8ACD-D3518FC2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0B65-D3AE-41F1-93F5-24540F0C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8BBF-2173-47E7-8E3C-169A3457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E7FB-0F7D-47AB-A9CA-1DE86F2C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EB9F-5C1A-41A0-8249-3E90D91F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41B6-5BA8-49C5-9843-01C2AD12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66A-8BEC-4A74-B100-914770F7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2576-5FAB-4CEA-B126-8FDF7D90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6F1D-0890-4670-ACBC-98963907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9FCC-C713-4C86-BBE1-000D5D77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EEBE-DAD7-44F9-8B57-1EB1AE6E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2EFA-6FC8-4903-8D86-91D259DC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A5A5-5837-403E-B451-FC6FB331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369C-1543-48BF-8FA8-5F0A04B9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2F4C-D4AE-48F0-BD87-AE805E2A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B812-3685-45C5-BF3B-69D7C8A3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8D1-8413-4AB7-9322-8056D5E9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FFB3-EB8F-4937-9BA5-5E365061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EBB-DC6A-441B-BD9E-A39E716F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8015-5206-44A8-A7C5-0E6F9B6FDE20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9BAA-FF26-405C-94C2-A5BA473B0A78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imes New Roman"/>
              </a:rPr>
              <a:t>PSICHIKOS SAMPRATA: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IKA, SĄMONĖ, PASĄMO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NARKOTIKAI IR SĄMONĖ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aktyvios medžiagos (pagal poveikį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iką stimuliuojanč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iką slopinanč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haliucinogen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RIKLAUSOMYBĖ (I)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NĖ PRIKLAUSOMYBĖ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liguistas potraukis vartoti narkotines medžiagas komforto būklei pasiek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FIZINĖ PRIKLAUSOMYBĖ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viso organizmo funkcinės veiklos pakitimas, pasireiškiantis ryškiais psichiniais ir fiziniais sutrikimais, staiga nustojus vartoti narkotik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IKLAUSOMYBĖS VYSTYMOSI FAZĖ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ominuoja euforizuojantis poveikis, negatyvūs padariniai neįvertinam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Narkotikų veikiamas asmuo jaučia laisvę nuo baimės ir padidėjusį savigarbos jausmą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eigiamas narkotikų poveikis iš lėto mažėja, norint pasiekti tą patį poveikį reikia didinti dozę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oblemos neigiamos. Atminties, dėmesio sutrikim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iklausomybės fazėje atsiranda smarkus dozės didinimas, kontrolės praradimas, santykių nutraukimas ir profesinio lygio smukima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Chroniškoje nykimo stadijoje aiškiai suprastėja narkotikų įsisavinimas. To pagrindas – prasidedantis organų pažeid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sichik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Žmogaus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ik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— tai daugybės tikrovės atspindėjimo ir žmogaus elgsenos reguliavimo reiškinių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suma.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ika: sąmonė ir pasąmon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monė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ąmonė apibrėžiama kaip nuolatinis minčių, jausmų ir suvokimų srautas, kurį protarpiais įsisąmoniname (atrankinis dėmesy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ąmonės būsenos: budri ir pakitusios sąmonės būse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akitusios sąmonės būsen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eg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ukelti sąmonės pokyči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editaci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Hipnoz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arkotikų sukeltos būse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iego kategorijos: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M (Rapid eye mov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ilus mie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MONĖS BŪSENOS (I)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egas ir sapnai. Miego fazė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Atsipalaidavimo būsenoje, tačiau dar būdraujant, smegenų elektrinės bangos vadinamos alfa bangomi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ukrenta širdies dažnis, temperatūra, spaudimas. Bangose išryškėja </a:t>
            </a:r>
            <a:r>
              <a:rPr b="0" i="1" lang="lt-LT" sz="2300" spc="-1" strike="noStrike">
                <a:solidFill>
                  <a:srgbClr val="000000"/>
                </a:solidFill>
                <a:latin typeface="Arial"/>
              </a:rPr>
              <a:t>miego verpstės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Pereinamoji miego faz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Giliojo miego faz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REM (rapid eyes movements) faz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Miego stadijų kaita nakties metu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129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ego sutrikim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emig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rkolepsij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Miego apnėj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ktinis siaub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akitusios sąmonės būsen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edit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Hipno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arkotinių medžiagų sukelti pokyč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20:42:46Z</dcterms:created>
  <dc:creator>TADAS</dc:creator>
  <dc:description/>
  <dc:language>en-US</dc:language>
  <cp:lastModifiedBy> </cp:lastModifiedBy>
  <dcterms:modified xsi:type="dcterms:W3CDTF">2007-08-30T15:15:34Z</dcterms:modified>
  <cp:revision>12</cp:revision>
  <dc:subject/>
  <dc:title>Slide 1</dc:title>
</cp:coreProperties>
</file>